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AB30-4670-471C-A71B-D3FF55DFF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E25C-50A8-4867-B3BB-9D8732777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F975-4857-4E42-AA45-D26B7D565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6BC0-C978-47E5-B7DC-DE158F350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65B3-4F46-4DED-A0BF-0390F0D7A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AFE6-29E8-4357-85CF-8D59DD0B3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3CCB-1A2E-4F07-8D1B-63B7A4398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2FDD-BB5D-4D84-98FF-56E81CCB5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C3F7-3A99-406B-86AD-0A92C8564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CAEE-1A8C-49E2-94D1-28E3F14EB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0827-C3DA-494A-9F26-8AF1B3100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1DEA-3CAD-4788-8543-191C6013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050-26A9-41CB-B4D8-4A547380C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2E00-DF82-4669-8120-9FC8B5E8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CBA5-42EF-487B-A65D-32E248943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CB9C-AAC9-412A-B557-894FFED5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A36A-F447-4309-AF38-510D3D6AF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9A68-05F0-4A74-9163-E1457A98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225-8084-47E9-BCB0-4FBD2A24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69D-39C8-4508-8979-A8048C9E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5C1-1892-4A47-9CA3-93045786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347-022E-4D75-A009-0CEB3271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F33-E913-4AB9-9A21-2A10124E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476-564F-4670-95CC-FDCD7CEF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7A0-1207-47F2-B947-A01DCA23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F69-0345-4B5C-9B9E-26C1B9C7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B9C-6FFA-4AAD-8CFE-8ECE754C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F5C-305A-4772-A6A5-3BFB66B4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4D0-5265-4FEC-9F07-5CC83487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7BC-10C8-4E3B-9DBD-9DC3020C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2771h1009"/>
          <p:cNvPicPr/>
          <p:nvPr/>
        </p:nvPicPr>
        <p:blipFill>
          <a:blip r:embed="rId2"/>
          <a:stretch/>
        </p:blipFill>
        <p:spPr>
          <a:xfrm>
            <a:off x="7315200" y="4800600"/>
            <a:ext cx="182880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E587-4294-4E86-BA7C-F0C1464728FD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2771h1009"/>
          <p:cNvPicPr/>
          <p:nvPr/>
        </p:nvPicPr>
        <p:blipFill>
          <a:blip r:embed="rId2"/>
          <a:stretch/>
        </p:blipFill>
        <p:spPr>
          <a:xfrm>
            <a:off x="3200400" y="1219320"/>
            <a:ext cx="5943600" cy="5225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uilding A  Classroom Library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makes a “good” collection of book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518B-F48A-44B2-808D-55241985A69F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frican American Authors/Illustrators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tta Scott King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ooks that encourage understanding and appreciation of people of all cultures and the pursuit of “the American Drea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Friend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Mildred 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Young Landl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Walter Dean M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BA9F-6A44-4ABD-A8B5-840367CD3BD0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o Author/Illustrator for Entire Body of Work: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s Christian Andersen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uthor and one illustrator in recognition of an entire body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s: Paula Fox, Virginia Hamilton, Scott O’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ors:  Mitsumasa Anno, Lisbeth Zw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ura Ingalls Wilder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or illustrator whose works have made a substantial and lasting contribution to children’s literature over a period of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euss, Virginia Hamilton, E. B.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733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ng a Classroom Library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98B0-A4FF-420F-8B14-F5646028B624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 Well-Rounded, Interesting Classroom Library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dern, realistic literature as well 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traditional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with different types of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of varying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ariety of gen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onal books and 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whose characters realistical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ict various cultural group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fe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that meet students’ read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DFC9-EF55-47DF-9A6A-EE469AEAF32D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Scenario: 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Your Classroom Library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/exchange with another group to make BOTH of your collections b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select to improve your collection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EB70-96E8-4676-BC09-EE04EE51F0E4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Genre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ditional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ths and religiou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bles (proverbs explicitly stated at the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ktales (word of mouth, unknown orig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urquoi Tal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ain phenom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ll Tales and Legends (greatly exaggerated accounts of heros and legen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 tales (repeating and adding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ry tales (folktales that involve mag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enticeship/Hero tales (character rises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wly to high estate, or from ignored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atened to recognized/rewarded for goo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4BEB-ADB0-4624-AE62-A497314A0A6C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Genre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listic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storical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ntasy and science f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graphy (depending o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2BD6-397C-44AC-BC55-A4B8EF08AB84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fferent types of texts require different ways of understanding and recalling the most important ideas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rrativ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pository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rrative Texts 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4D98-CE53-45FB-A0E6-3B082B6A8910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hat is a narrative text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lls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ed on life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son-oriented using dialogue and familiar langu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ritten in first, second, or third per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0CF3-D221-4FDD-A6D8-F90AC93F95EF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quality piece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ildren’s lite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books are in a high-quali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libr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Grades 3-6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2681-B8D6-4D23-A7F6-6368D808A13E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Purpose(s)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ent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Provide an aesthetic exper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569E-F24F-4594-9BF2-766C2D453FF2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Genre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ditional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ths and religiou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bles (proverbs explicitly stated at the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ktales (word of mouth, unknown orig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urquoi Tal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ain phenom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ll Tales and Legends (greatly exaggerated accounts of heros and legen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 tales (repeating and adding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ry tales (folktales that involve mag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enticeship/Hero tal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character rises fro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lowly to high estate, or from ignored/threatene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 recognized/rewarded for good qualities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B2C4-016D-4D1F-ADDF-001274AC5AE8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More Genres…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listic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storical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ntasy and science f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graphy (depending o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4245-01F0-4FD1-A0A6-1A503E1FCEFC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Organization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ory Grammar/Sto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AEE7-7CBE-4703-A3FB-AE04750B7D75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ess Complex Story Grammar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(characters, setting,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(ev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(reso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99DD-C7DC-4B31-AA70-1265E6A23F90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More Complex Story Grammar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(antagonist/protagonist), setting, problem (conflict), initiat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ing points, crisis, rising action, climax, subplot, parallel epis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, falling action,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C2F0-8CF0-44B0-94C6-6DE6A1BA0FE4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Expository Text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f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formation [“Communicate information about the natural or social world” (Duke, 2000)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non-text features, such as charts, pictures, dia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contain captions with grap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 timeless verb constructions (“Tigers are strong animals”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d differently than s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e/ef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order/sequ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/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umerative/li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s It Really That Easy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9C33-45E8-4953-ACEE-96186D4343FC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hat About…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classified 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(1) they follow narrative structure, (2) they inform about people rather than “the natural or social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9089-CA78-4ED1-BE47-99879E149F17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Hybrid Text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wants to convey information about natural or social world, but does so in a way that is perhaps considered more humorous and entert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s elements of narrative and ex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Magic School Bus Series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ic Tree House Boo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8C34-F3E8-44DB-8B24-26CBE161F16E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04D6-98DA-4493-B696-88DE9CB080D8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Scenario: 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Your Classroom Library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ood about your col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ot so good about your col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lse might you want in your collecti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Homework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Magic Tree Hous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qualities that make this a good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possibilities for cross-curricular conn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Book Activity 2 assignment on wiki and bring questions to class for Thurs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FD87-A920-424C-B5F2-52461A580FA2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0C5D-95FE-4CBD-952E-6976B7746A69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TH Screenshot.png"/>
          <p:cNvPicPr/>
          <p:nvPr/>
        </p:nvPicPr>
        <p:blipFill>
          <a:blip r:embed="rId1"/>
          <a:stretch/>
        </p:blipFill>
        <p:spPr>
          <a:xfrm>
            <a:off x="641520" y="177840"/>
            <a:ext cx="786096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139B-4C40-4EAA-9F65-079759369EA3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at makes a “good” classroom library? What kinds of books should you choose? 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BDB4-43AB-40AF-A9C3-3DCDB1306810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ow Do We Recognize “Quality” Children’s literature?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boo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awareness &amp; empat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iverse experiences and perspectives they can “label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joyable read that doesn’t overly teach or moraliz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how rather than te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the tru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ue to life characters with a human experien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od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ords, plot, characters, descrip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t together into a satisfying wh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ique characters &amp; situa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stretch thinking about possibiliti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7339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hildren’s Literature Award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9BE6-64DF-47A2-A2F2-BEFF379F1A6E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For the Book: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Newbery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k judged to be the mo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ed contribution to children’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published in the U.S. during the previous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rah, Plain and 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Patricia MacLach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hipping Bo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Sid Fleisch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Louis Sa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ston Globe-Horn Book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utstanding example of Fiction and Nonf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ction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Pop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Avi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ssing M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Cynthia Ry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Fiction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journer Truth:  Ain’t I a Wo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Patricia &amp; Fredrick McKiss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Screen Shot 2014-09-29 at 9.48.45 PM.png"/>
          <p:cNvPicPr/>
          <p:nvPr/>
        </p:nvPicPr>
        <p:blipFill>
          <a:blip r:embed="rId1"/>
          <a:stretch/>
        </p:blipFill>
        <p:spPr>
          <a:xfrm>
            <a:off x="6705720" y="304920"/>
            <a:ext cx="225252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9AF5-DF68-4B98-81BC-4702D7CC0F3F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9907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For the Illustrations: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dolph Caldecot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ded to the illustrator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distinguish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’s book published the previou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ficer Buckle and Glo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Peggy Rath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wl M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Jane Y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ston Globe-Horn Book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utstanding example of ill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ndfather’s Journ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Alan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faro’s Beautiful Daugh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Joh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Screen Shot 2014-09-29 at 9.49.59 PM.png"/>
          <p:cNvPicPr/>
          <p:nvPr/>
        </p:nvPicPr>
        <p:blipFill>
          <a:blip r:embed="rId1"/>
          <a:stretch/>
        </p:blipFill>
        <p:spPr>
          <a:xfrm>
            <a:off x="6248520" y="152280"/>
            <a:ext cx="28954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B0DD-57C9-4264-92B9-D4DE278B0C81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For “New Talent” in Children’s Writing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Reading Association Children’s Book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uthor who writes for older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tters from Rif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Karen H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uthor who writes for younger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eet Clara and the Freedom Qui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Deborah Hopkinson, Illustrated by James Ran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uthor who writes informational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ooklyn Bri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Elizabeth 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zra Jack Keats New Writer’s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sing new writer who has had six or fewer children’s books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 B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Faith Ring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14:51:40Z</dcterms:created>
  <dc:creator>SOE</dc:creator>
  <dc:description/>
  <dc:language>en-US</dc:language>
  <cp:lastModifiedBy>Julie Coiro</cp:lastModifiedBy>
  <dcterms:modified xsi:type="dcterms:W3CDTF">2014-10-06T12:07:08Z</dcterms:modified>
  <cp:revision>26</cp:revision>
  <dc:subject/>
  <dc:title>Choosing Quality Children’s Trade Books</dc:title>
</cp:coreProperties>
</file>